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DFE-C525-4BC1-B4F4-BD45DE32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1AE-D329-4903-9CD6-B8F5E8E0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351-60EE-4C54-BE7A-20BF1487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9EF-F857-4269-B872-49E188C4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716-5F20-477F-9F0B-B76C2E30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2E5-FE75-41F4-B988-74560C4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696-6F03-43EB-B159-9A602F01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1E2-D0DD-4FEA-B2A2-13B61DA9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C61-6FEC-43B4-897F-CA5751C7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366-C384-4EE1-A826-02DC5D6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12D-73F2-4714-A1FD-1EB6DA7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D2E-B51C-4834-BC17-3349B966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FE8F-9F5D-40F2-82CC-9B3D5156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110280" cy="981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562280" cy="586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617220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334120" cy="96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7086600" cy="232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419112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47242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19112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6483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715000" cy="839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8001000" cy="132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39625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39625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39625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13864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077320" cy="4902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5410080"/>
            <a:ext cx="3808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391520" cy="5776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91120" y="24382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124080"/>
            <a:ext cx="9907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373392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0670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9528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6:19Z</dcterms:created>
  <dc:creator>grahams</dc:creator>
  <dc:description/>
  <dc:language>en-US</dc:language>
  <cp:lastModifiedBy>grahams</cp:lastModifiedBy>
  <dcterms:modified xsi:type="dcterms:W3CDTF">2012-03-20T14:14:54Z</dcterms:modified>
  <cp:revision>3</cp:revision>
  <dc:subject/>
  <dc:title>Slide 1</dc:title>
</cp:coreProperties>
</file>